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88B-8E14-4784-A351-4234D3F9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F3A-864E-4B60-8717-1BC10C7B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88C-9C88-47FE-966E-ACBE962F4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D42-68A1-4A93-AE1D-9E6DEC05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2AF-0E00-448C-9B39-1950C3B6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496D-D764-47F6-967C-AFF93DB8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2C22-EECB-4163-826D-BEF35D9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C7A-9695-4004-8982-090A86EC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7B2E-6DDA-48F5-871C-013DBC62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59F-12F2-4C9A-852D-0105B65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19D-00DD-4E5D-A5B1-A8AC0A06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CD7-C5FF-40AE-919E-06A47990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0982-B6CD-4812-8DA4-6150E8140F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hapter 16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AGONY OF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4572000"/>
            <a:ext cx="792468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800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DIVI7233TB1601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7753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76" name="Picture 7" descr="DIVI7233327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47959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Impeachment Crisi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obstructs Congressional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limits Presidential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ure of Off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68: Congress impe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e refuses to convict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cal Republicans seen as subversive of Constitution, lose public sup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Reconstructing Southern Socie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contending interests in Sou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ern whites seek to keep newly freed blacks inf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ern whites seek to make money or to "civilize" the region – Carpetbaggers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 seek 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organizing Land and Labor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-slaves wish to work their own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sometimes grant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reverts to white owners under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owners try to impose contract lab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s insist on sharecr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cropping soon becomes peon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Black Codes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 New Name for Slavery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7814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Codes designed to return blacks to quasi-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s overturned by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and discrimination continued on a large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publican Rule in the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56386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7: Southern Republican party orga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people want government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farmers want protection from cred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s form majority of party, want social and political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coalition un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break up when whites le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laiming Public and Private Right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8229600" cy="38368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d slaves want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ri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uc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treat from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ormous problems 1868–18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’s weak principles contribute to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04" name="Content Placeholder 3" descr="18ug_header_sm.jpeg"/>
          <p:cNvPicPr/>
          <p:nvPr/>
        </p:nvPicPr>
        <p:blipFill>
          <a:blip r:embed="rId2"/>
          <a:srcRect l="-6438" t="0" r="-6438" b="0"/>
          <a:stretch/>
        </p:blipFill>
        <p:spPr>
          <a:xfrm>
            <a:off x="457200" y="990720"/>
            <a:ext cx="8229600" cy="41148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President Versus Congre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rth split on reconstructing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House seeks speedy reconstruction with minimum changes in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seeks slower reconstruction, demands protection for freed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ise of the Money Ques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ic of 1873 raises “the money question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ors seek inflationary monetary policy by continuing circulation of "greenbacks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ors, intellectuals support hard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5: government commits to hard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6: Greenback party formed, makes gains in congressional r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Election of 1868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10" name="Picture 8" descr="DIVI7233TB1602"/>
          <p:cNvPicPr/>
          <p:nvPr/>
        </p:nvPicPr>
        <p:blipFill>
          <a:blip r:embed="rId2"/>
          <a:srcRect l="0" t="16466" r="0" b="0"/>
          <a:stretch/>
        </p:blipFill>
        <p:spPr>
          <a:xfrm>
            <a:off x="304920" y="2362320"/>
            <a:ext cx="8610480" cy="30924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Final Efforts of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9: Fifteenth Amendment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enfranchised Northern b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rights group were upset that they were not granted the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upport for black citizenship wa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 Reign of Terror Against Black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60962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 societies used terror tactics to keep blacks out of the political process and near  insurrections against state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0s: Congress tries to suppress Ku Klux Klan, other Southern terrorist grou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876 Republicans control only South Carolina, Louisiana, and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upport for military action w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Election of 1872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18" name="Picture 4" descr="DIVI7233TB1603"/>
          <p:cNvPicPr/>
          <p:nvPr/>
        </p:nvPicPr>
        <p:blipFill>
          <a:blip r:embed="rId2"/>
          <a:srcRect l="0" t="13027" r="0" b="0"/>
          <a:stretch/>
        </p:blipFill>
        <p:spPr>
          <a:xfrm>
            <a:off x="457200" y="1905120"/>
            <a:ext cx="8305920" cy="40687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union and the New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reconcile after 18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of 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Americans stripped of political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business interests favored over small fa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Compromise of 1877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76 dispu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ongressional commission gives disputed vote to Rutherford B. Ha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Democrats accept on two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 of federal aid to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all remaining federal tr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es’ agreement ends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IVI7233338"/>
          <p:cNvPicPr/>
          <p:nvPr/>
        </p:nvPicPr>
        <p:blipFill>
          <a:blip r:embed="rId2"/>
          <a:stretch/>
        </p:blipFill>
        <p:spPr>
          <a:xfrm>
            <a:off x="2133720" y="762120"/>
            <a:ext cx="4860720" cy="533376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Rise of Jim Crow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emer Democrats systematically exclude black vo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Crow laws legalize segregation and restrict black civi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10 the process was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rth and the federal government did little or nothing to preven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Rise of Jim Crow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nching—187 blacks lynched yearly 1889–18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Supreme Court decisions gut Reconstruction Amendments 1875–18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essy v. Ferguson (18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ed “separate but equal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nion” accomplished as North tacitly acquiesces in Southern 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Wartime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nnounces lenient policy in 18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resents Lincoln’s effort to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men seek to condition readmission to Union on black suff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mistrusts white Southe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ndrew Johnson at the Hel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53341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itially support Southern Democrat Johnson as enemy of planter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, Republicans split on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instructs Southern conven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 secession il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diate Confederate deb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fy the Thirteenth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57" name="Content Placeholder 3" descr="17aj_header_sm.jpeg"/>
          <p:cNvPicPr/>
          <p:nvPr/>
        </p:nvPicPr>
        <p:blipFill>
          <a:blip r:embed="rId2"/>
          <a:srcRect l="-6438" t="0" r="-6438" b="0"/>
          <a:stretch/>
        </p:blipFill>
        <p:spPr>
          <a:xfrm>
            <a:off x="380880" y="1371600"/>
            <a:ext cx="8229600" cy="41148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ndrew Johnson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t the Hel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conventions reluctantly carry out Johnson’s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s pass “Black Cod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approves conventions’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condemns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 Takes the Initiativ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39970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sist on black suff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expect to get black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ological commitment to equal rights, even if some did not believe in racial equa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that South would fall under great planter control without black su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 Takes the Initiativ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6: Johnson vetoes two b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 of Freedmen’s Bur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bill to overturn Black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pass Fourteenth Amend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National Union party runs against Republican congressmen in e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s of 1866 strengthen Republ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ional Reconstruction Plan Enacted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under military rule until black suffrage fully sec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ption:  black suffrage sufficient to empower freedmen to protect themsel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3:10:20Z</dcterms:created>
  <dc:creator>CMU</dc:creator>
  <dc:description/>
  <cp:keywords/>
  <dc:language>en-US</dc:language>
  <cp:lastModifiedBy>Matthew Myers</cp:lastModifiedBy>
  <cp:lastPrinted>2012-05-30T00:40:02Z</cp:lastPrinted>
  <dcterms:modified xsi:type="dcterms:W3CDTF">2011-11-30T03:28:23Z</dcterms:modified>
  <cp:revision>12</cp:revision>
  <dc:subject/>
  <dc:title>THE AGONY OF RECONSTRUCTION</dc:title>
</cp:coreProperties>
</file>